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346675"/>
        <c:axId val="52250753"/>
      </c:barChart>
      <c:catAx>
        <c:axId val="943466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50753"/>
        <c:crosses val="autoZero"/>
        <c:auto val="1"/>
        <c:lblAlgn val="ctr"/>
        <c:lblOffset val="100"/>
        <c:noMultiLvlLbl val="0"/>
      </c:catAx>
      <c:valAx>
        <c:axId val="522507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466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190-B7F6-4181-AA05-07351FB0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FE66-D51E-4FF0-8C36-D5F6563A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851D-2748-42CC-B988-C86E0586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45FD-FEDD-4739-90FF-E32BECCD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AE26-1FB7-4D24-AC75-D7AA8425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A593-541B-448A-BA42-7C624EB8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D1CF-D445-40A0-A7E7-ADE1FACE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F8FB-0D90-4B56-9650-B68E238B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57AC-DE3E-48B8-9143-AAEA9EF1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6C9C-FB13-4810-A3EF-ECE94943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90D9-8351-427E-B16C-F0E70F66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FBFF-7950-44B0-98A9-41D19E60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418EE-DD3F-410E-B7C3-0852F684F6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