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42170"/>
        <c:axId val="47294829"/>
      </c:barChart>
      <c:catAx>
        <c:axId val="14342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94829"/>
        <c:crosses val="autoZero"/>
        <c:auto val="1"/>
        <c:lblAlgn val="ctr"/>
        <c:lblOffset val="100"/>
        <c:noMultiLvlLbl val="0"/>
      </c:catAx>
      <c:valAx>
        <c:axId val="47294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42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C05-3FBD-4F89-B348-250B34C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CC9-E3CC-43E4-8C42-2EF6632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65F-222C-450F-A5CC-A26F7A9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503-3D61-42CC-9880-277E3852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A91-2D38-48C6-AC09-AD5CAD2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285-BA4E-48F2-AD3B-B9769CD0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94E-2759-468A-B2F4-39224B5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64B-A979-49C9-9C3E-167F1DC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D85-9CA8-40B5-A234-8FDD9C9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46E-C838-4281-BD06-3D2D241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CE0-01BF-4B48-A535-51DFF21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009-0F69-436A-BBA8-D5AA2B4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5942A-8B62-4A92-8D59-19F676981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