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35579"/>
        <c:axId val="24272749"/>
      </c:barChart>
      <c:catAx>
        <c:axId val="96735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72749"/>
        <c:crosses val="autoZero"/>
        <c:auto val="1"/>
        <c:lblAlgn val="ctr"/>
        <c:lblOffset val="100"/>
        <c:noMultiLvlLbl val="0"/>
      </c:catAx>
      <c:valAx>
        <c:axId val="24272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35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6F9-2AFB-4BBD-B5BE-32C067D4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DED6-24D8-484E-ACEF-4C81044E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1D9-CE23-4AD7-906C-000E1A2D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A35-0C8C-4BB4-9BC4-775A652A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BF55-BC7E-43AE-B074-BB5E6F73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BD2-943E-45CD-B503-8A8268E1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D39-AB85-489A-AE38-08874E19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FED-B953-4E99-A077-9253D889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8C0-7D6D-49BF-A83F-484C7D8C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97D-7789-4373-B949-EA3B96FE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28B-E0AF-414E-B511-202D9093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1AD7-2E58-43A2-B9F0-4C8D0DFF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8C0E6-A9F0-4F65-95BB-A742885F83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